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954838" cy="9240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308640"/>
            <a:ext cx="2895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Educational Research: Competencies for Analysis and Application, 9</a:t>
            </a:r>
            <a:r>
              <a:rPr b="0" i="1" lang="en-US" sz="1000" spc="-1" strike="noStrike" baseline="30000">
                <a:solidFill>
                  <a:srgbClr val="000000"/>
                </a:solidFill>
                <a:latin typeface="Tahoma"/>
                <a:ea typeface="ＭＳ Ｐゴシック"/>
              </a:rPr>
              <a:t>th</a:t>
            </a:r>
            <a:r>
              <a:rPr b="0" i="1" lang="en-US" sz="1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edi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Gay, Mills, &amp; Airasi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5638680" y="6384960"/>
            <a:ext cx="2210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© 2009 Pearson Education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3434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2BC25-E74E-4F64-B8B8-81095A419FCD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33520" cy="68580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861320" y="6362640"/>
            <a:ext cx="1130400" cy="41904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4">
            <a:lum bright="70000" contrast="-70000"/>
          </a:blip>
          <a:stretch/>
        </p:blipFill>
        <p:spPr>
          <a:xfrm>
            <a:off x="1143000" y="609480"/>
            <a:ext cx="7772400" cy="5562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66680" y="68544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Chapter 14: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Qualitative Data Collec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jectiv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Courier New"/>
              </a:rPr>
              <a:t>Distinguish between participant and nonparticipant observational techniques and describe how they can be used in a qualitative stud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Courier New"/>
              </a:rPr>
              <a:t>Identify four specific interview techniques and describe how they can be used in a qualitative stud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Recording Observat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047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s the status or roles of people; who leads, who follows, who is decisive, who is not?  What is the tone of the session?  What beliefs, attitudes, values seem to emerg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did the meeting end?  Was the group divided, united, upset, bored, or relieved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activities or interactions seemed unusual or significan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was the observer doing during the session?  What was the observer’s level of participation in the observation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Recording Observat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lowly.  Do not assume that you know what you are looking for until you have experience in the setting and have spent time with the participant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y to enter the field with no preconceptions. Recognize and dismiss your assumptions and remain ope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e your field notes as soon as possible. Don’t discuss the observation until you have written field not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Recording Observat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123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lude the date, site, and time on notes. Use large margins and write impressions in the margins. Draw diagram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key words related to the observation and outline what you saw and heard.  Use the keywords and the outline to write your not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descriptive and reflective parts of your field notes distinc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Recording Observat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123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e down your hunches, questions, and insights after each observ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the lines or paragraphs of your field notes to help you find sections when need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er your field notes into a computer program for later examination and analysi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Interview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351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views are purposeful interactions in which one person obtains information from another pers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views allow for data not available through observation alon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views may be formal and planned or informal and unplanne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Interview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351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views may be unstructured or structur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tructured interviews are similar to convers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tructured interviews are commonly used to gain more personal informa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Interview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351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interviews include predetermined question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rasing structured interviews can be challenging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both open-ended and closed questio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ilot test the questio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Guidelines for Interview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275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ening is the most important part of interviewin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interrupt. Wai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lerate silence. The participant may be thinkin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oid leading question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participants focused and ask for detail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Guidelines for Interview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123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llow-up on what participants say and ask questions when you don’t understan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be judgmental about participants’ views or belief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debate with participants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ollecting Data From Interview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archers can collect data through taking notes during the interview, writing notes after the interview, and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dio- or videotaping the interview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rd when it is possib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ing notes during an interview is distracting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ing notes after an interview is difficult because the interviewer may not remember critical informa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cribing tapes takes a very long tim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ed transcripts and tapes should be stor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Chapter 14: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Qualitative Data Collec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jectiv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Courier New"/>
              </a:rPr>
              <a:t>Describe how questionnaires and records can be used to provide data for qualitative studi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Courier New"/>
              </a:rPr>
              <a:t>Describe strategies to address the trustworthiness (i.e., validity) and replicability (i.e., reliability) of qualitative research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ollecting Data From Interview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351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 groups include several individuals who can contribute to the understanding of the research problem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one should have opportunities to respond during a focus group interview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cribing focus group interviews may take longer to than transcribing individual interview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ollecting Data From Interview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351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-mail interviews are similar to an ongoing conversa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thical considerations of confidentiality and anonymity are important to address in e-mail interview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Questionnai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742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views are time consuming.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researchers use questionnaires and then follow-up questionnaires with interview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stionnaires allow for larger amounts of data collec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nature of the data collected with questionnaires is different than data from observation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Questionnaire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742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questionnaire attractiv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efully proofread questionnair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oid lengthy questionnair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ask unnecessary question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ructured items with a variety of respons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Questionnaire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742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lude a section that allows respondents to include ‘other comments’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section may provide information for follow-up interview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if respondents’ identities are necessary and if so, develop a mechanism to track respondents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xamining Record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ative researchers use a variety of available document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chival docu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ur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deotape and audiota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if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Validity and Reliability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199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idity in qualitative research addresses whether the data accurately measures what it was intended to measur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stworthiness and understanding are terms used to describe validity in qualitative research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Validity and Reliability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123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stworthiness can be establish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redibility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e report addresses problems that are not easily explain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ransferability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e description provided is such that others can identify with the setting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pendability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e stability of the data is address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nfirmability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e neutrality and objectivity of the data are appar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Validity and Reliability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42640" y="201780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iteria for qualitative research validity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criptive valid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factual accuracy of the ac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terpretive validity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searcher accurately interprets participants’ behaviors and a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oretical valid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how well the report relates to broader theo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Validity and Reliability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42640" y="201780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valuative valid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whether the report was created without researcher’s ju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eneralizability (Internal and External)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egree to which research is generalizable within and outside the se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ualitative Data Collec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ative data collection is referred to as fieldwor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eldwork includes materials gathered, recorded, and compiled during the stud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eldwork requires the researcher to immerse himself in the setting over tim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researcher collects as much data she can as unobtrusively as possibl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ative data is narrative and visual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Validity and Reliability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6970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ategies for ensuring the validity of qualitative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long participation at the study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sistently obser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peer debrief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additional artifac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uct member che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structural corroboration or coh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referential adequa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Validity and Reliability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047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detailed descriptiv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 detailed descriptions of the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an audit trai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actice triang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actice reflex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Validity and Reliability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427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ctical options to assure trustworthi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lk little; listen a l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rd observations accu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writing e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 readers ‘see’ for themsel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ort fu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 cand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k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ccuratel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dopted from Wolcott (19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Validity and Reliability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199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ative researchers address reliability by examining the techniques they are using to collect data.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izability is less a concern for qualitative researchers than it is for quantitative researchers.  Qualitative researchers are more concerned with relev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Observ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6970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researcher obtains data by watching participants.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servational data is often less subject to participant bia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researcher attempts not to change the settin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Observ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6970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ms of observ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cipant ob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earcher becomes part of and a participant in the situation being observ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earcher participates while observing and collecting dat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Observ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6970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ms of observ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participant ob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earcher is not directly part of the situation being observ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earcher observes and records but does not interact with the participa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participant observation is a less intrusive form of observa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Recording Observat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123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eld notes include descriptive information about what the observer has directly seen and heard on sit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eld notes also include reflective information that captures an observer’s personal reactions and thoughts related to the observation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researcher avoids evaluative terms in field notes but instead describes behavior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Recording Observat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047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servational protocols are often us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s provide the researcher with a focus during the observ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s also provide a framework for the field not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Recording Observat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047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ple protocol questions includ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o is being observed?  How many people are involved, who are they, and what individual roles and mannerisms are eviden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s going on?  What is the nature of the conversation? What are people saying or doing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s the physical setting like?  How are people seated, and where? How do the participants interact with each other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hristina Robb</cp:lastModifiedBy>
  <dcterms:modified xsi:type="dcterms:W3CDTF">2008-05-19T19:15:58Z</dcterms:modified>
  <cp:revision>89</cp:revision>
  <dc:subject/>
  <dc:title>AutoCAD Architecture 2008: Part I: Getting Started</dc:title>
</cp:coreProperties>
</file>